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7.gif" ContentType="image/gif"/>
  <Override PartName="/ppt/media/chimes.wav" ContentType="audio/x-wav"/>
  <Override PartName="/ppt/media/pu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84D5E-D598-4472-8B0C-38CE0995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CF04-F8E8-4CEA-92A4-F902974A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93B5-A8C3-4020-8DF0-69F868B8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7754D-EAC8-485E-9058-A5C497A5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DD5E-C71B-4670-9673-7BCD4EDD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B91E-580F-4F23-9005-8C6796DA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A5C6-B5AA-4904-9A11-5F99BFF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5715-A478-44DE-8743-0268F9CD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19E5-E0E1-4B41-A95C-C0739A83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579F-557D-41E6-93B3-D23B5780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861-B28A-4347-84DC-7EB7160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C1E4-AC30-4B56-80CA-3715BCA2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F23C-B3BE-4BB0-9D54-29F4998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078B-9164-48D9-BB59-79143E8F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D184-2EBA-455F-8B8F-CF6B2CC1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CDA0-B3E1-45D4-B0A0-FD5597FC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78E2-CA8F-403B-AB94-D9FB9626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543A4-F8FC-49FC-8126-D9D6682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FAD9-8168-48D9-A2BF-1575387D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98FC-FACC-4C0E-B423-E0791627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EF676-3405-4A70-AD7A-3155B1D9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27F16-7590-4E65-B8D9-3867EADE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9943-2C87-43CF-866E-0A26047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A179C-FC8C-45D0-B917-38703AF3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72c67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f6f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ddd92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CE8F-651A-4F4F-B6B0-34E59780CDB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45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56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3a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62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3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3a"/>
                </a:gs>
                <a:gs pos="50000">
                  <a:srgbClr val="07073f"/>
                </a:gs>
                <a:gs pos="100000">
                  <a:srgbClr val="0000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f6f8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8f6f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7D11-F4A3-4E1E-9C95-33C6EB11AE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gif"/><Relationship Id="rId7" Type="http://schemas.openxmlformats.org/officeDocument/2006/relationships/hyperlink" Target="file:///tmp/home/.config/libreoffice/4/user/gallery/whoosh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gif"/><Relationship Id="rId15" Type="http://schemas.openxmlformats.org/officeDocument/2006/relationships/hyperlink" Target="file:///tmp/home/.config/libreoffice/4/user/gallery/whoosh.wav" TargetMode="External"/><Relationship Id="rId16" Type="http://schemas.openxmlformats.org/officeDocument/2006/relationships/image" Target="../media/image3.png"/><Relationship Id="rId17" Type="http://schemas.openxmlformats.org/officeDocument/2006/relationships/audio" Target="../media/chimes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push.wav"/><Relationship Id="rId23" Type="http://schemas.openxmlformats.org/officeDocument/2006/relationships/audio" Target="../media/push.wav"/><Relationship Id="rId24" Type="http://schemas.openxmlformats.org/officeDocument/2006/relationships/audio" Target="../media/push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push.wav"/><Relationship Id="rId23" Type="http://schemas.openxmlformats.org/officeDocument/2006/relationships/audio" Target="../media/chimes.wav"/><Relationship Id="rId2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push.wav"/><Relationship Id="rId21" Type="http://schemas.openxmlformats.org/officeDocument/2006/relationships/audio" Target="../media/push.wav"/><Relationship Id="rId22" Type="http://schemas.openxmlformats.org/officeDocument/2006/relationships/audio" Target="../media/chimes.wav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chimes.wav"/><Relationship Id="rId21" Type="http://schemas.openxmlformats.org/officeDocument/2006/relationships/audio" Target="../media/push.wav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push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push.wav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push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7.gif"/><Relationship Id="rId11" Type="http://schemas.openxmlformats.org/officeDocument/2006/relationships/hyperlink" Target="file:///tmp/home/.config/libreoffice/4/user/gallery/whoosh.wav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3.pn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44080" cy="62578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066680" y="609480"/>
            <a:ext cx="728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JUTĂ LA ÎMPODOBIREA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RADULUI DE CRĂCIUN !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>
            <a:hlinkClick r:id="" action="ppaction://hlinkshowjump?jump=nextslide"/>
            <a:hlinkClick r:id="rId7"/>
          </p:cNvPr>
          <p:cNvSpPr/>
          <p:nvPr/>
        </p:nvSpPr>
        <p:spPr>
          <a:xfrm>
            <a:off x="7162920" y="5638680"/>
            <a:ext cx="1676160" cy="914400"/>
          </a:xfrm>
          <a:custGeom>
            <a:avLst/>
            <a:gdLst>
              <a:gd name="textAreaLeft" fmla="*/ 59040 w 1676160"/>
              <a:gd name="textAreaRight" fmla="*/ 1617120 w 1676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9587" h="21600">
                <a:moveTo>
                  <a:pt x="0" y="0"/>
                </a:moveTo>
                <a:lnTo>
                  <a:pt x="39587" y="0"/>
                </a:lnTo>
                <a:lnTo>
                  <a:pt x="39587" y="21600"/>
                </a:lnTo>
                <a:lnTo>
                  <a:pt x="0" y="21600"/>
                </a:lnTo>
                <a:close/>
              </a:path>
              <a:path fill="lightenLess" w="39587" h="21600">
                <a:moveTo>
                  <a:pt x="0" y="0"/>
                </a:moveTo>
                <a:lnTo>
                  <a:pt x="39587" y="0"/>
                </a:lnTo>
                <a:lnTo>
                  <a:pt x="38187" y="1400"/>
                </a:lnTo>
                <a:lnTo>
                  <a:pt x="1400" y="1400"/>
                </a:lnTo>
                <a:close/>
              </a:path>
              <a:path fill="darken" w="39587" h="21600">
                <a:moveTo>
                  <a:pt x="39587" y="0"/>
                </a:moveTo>
                <a:lnTo>
                  <a:pt x="39587" y="21600"/>
                </a:lnTo>
                <a:lnTo>
                  <a:pt x="38187" y="20200"/>
                </a:lnTo>
                <a:lnTo>
                  <a:pt x="38187" y="1400"/>
                </a:lnTo>
                <a:close/>
              </a:path>
              <a:path fill="darkenLess" w="39587" h="21600">
                <a:moveTo>
                  <a:pt x="39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7" y="20200"/>
                </a:lnTo>
                <a:close/>
              </a:path>
              <a:path fill="lighten" w="39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7" h="21600">
                <a:moveTo>
                  <a:pt x="12787" y="3794"/>
                </a:moveTo>
                <a:lnTo>
                  <a:pt x="26800" y="10800"/>
                </a:lnTo>
                <a:lnTo>
                  <a:pt x="127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8f6f8"/>
              </a:solidFill>
              <a:latin typeface="Tahom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304920" y="228600"/>
            <a:ext cx="86104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-AI DESCURCAT EXCELENT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L MAI FRUMOS BRAD ESTE AL TĂU 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6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65" name="">
            <a:hlinkClick r:id="" action="ppaction://hlinkshowjump?jump=nextslide"/>
            <a:hlinkClick r:id="rId7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-1523880" y="-380880"/>
            <a:ext cx="12191760" cy="76197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 rot="599400">
            <a:off x="2133720" y="2286000"/>
            <a:ext cx="6095880" cy="385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ĂRBĂTORI FERICITE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ŞI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A MULŢI ANI !!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2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895480"/>
            <a:ext cx="1211040" cy="1059120"/>
            <a:chOff x="990720" y="2895480"/>
            <a:chExt cx="1211040" cy="105912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990720" y="28954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295280" y="33526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32600" y="3505320"/>
            <a:ext cx="1211400" cy="1058760"/>
            <a:chOff x="7932600" y="3505320"/>
            <a:chExt cx="1211400" cy="1058760"/>
          </a:xfrm>
        </p:grpSpPr>
        <p:pic>
          <p:nvPicPr>
            <p:cNvPr id="140" name="" descr=""/>
            <p:cNvPicPr/>
            <p:nvPr/>
          </p:nvPicPr>
          <p:blipFill>
            <a:blip r:embed="rId5"/>
            <a:stretch/>
          </p:blipFill>
          <p:spPr>
            <a:xfrm>
              <a:off x="7932600" y="350532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8237520" y="3962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05120" y="1447920"/>
            <a:ext cx="1211040" cy="1058760"/>
            <a:chOff x="1905120" y="1447920"/>
            <a:chExt cx="1211040" cy="1058760"/>
          </a:xfrm>
        </p:grpSpPr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1905120" y="14479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2209680" y="1904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149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152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9 mai mare 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6 şi 7 ?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4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" action="ppaction://hlinkshowjump?jump=nextslide"/>
            <a:hlinkClick r:id="rId15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2.5E-006 -4.44444E-006 L 0.30833 -0.25556 E">
                                      <p:cBhvr>
                                        <p:cTn id="3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166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932600" y="3505320"/>
            <a:ext cx="1211400" cy="1058760"/>
            <a:chOff x="7932600" y="3505320"/>
            <a:chExt cx="1211400" cy="1058760"/>
          </a:xfrm>
        </p:grpSpPr>
        <p:pic>
          <p:nvPicPr>
            <p:cNvPr id="169" name="" descr=""/>
            <p:cNvPicPr/>
            <p:nvPr/>
          </p:nvPicPr>
          <p:blipFill>
            <a:blip r:embed="rId5"/>
            <a:stretch/>
          </p:blipFill>
          <p:spPr>
            <a:xfrm>
              <a:off x="7932600" y="350532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8237520" y="3962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905120" y="1447920"/>
            <a:ext cx="1211040" cy="1058760"/>
            <a:chOff x="1905120" y="1447920"/>
            <a:chExt cx="1211040" cy="1058760"/>
          </a:xfrm>
        </p:grpSpPr>
        <p:pic>
          <p:nvPicPr>
            <p:cNvPr id="172" name="" descr=""/>
            <p:cNvPicPr/>
            <p:nvPr/>
          </p:nvPicPr>
          <p:blipFill>
            <a:blip r:embed="rId6"/>
            <a:stretch/>
          </p:blipFill>
          <p:spPr>
            <a:xfrm>
              <a:off x="1905120" y="14479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209680" y="1904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175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178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181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3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5 mai mare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8 şi 9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Motion origin="layout" path="M -2.77778E-006 5.55556E-006 L -0.35833 -0.15555 E">
                                      <p:cBhvr>
                                        <p:cTn id="13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192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198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905120" y="1447920"/>
            <a:ext cx="1211040" cy="1058760"/>
            <a:chOff x="1905120" y="1447920"/>
            <a:chExt cx="1211040" cy="1058760"/>
          </a:xfrm>
        </p:grpSpPr>
        <p:pic>
          <p:nvPicPr>
            <p:cNvPr id="201" name="" descr=""/>
            <p:cNvPicPr/>
            <p:nvPr/>
          </p:nvPicPr>
          <p:blipFill>
            <a:blip r:embed="rId6"/>
            <a:stretch/>
          </p:blipFill>
          <p:spPr>
            <a:xfrm>
              <a:off x="1905120" y="14479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209680" y="19047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204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07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10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4 mai mare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9 şi 7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animMotion origin="layout" path="M 8.33333E-007 -4.44444E-006 L 0.13385 0.12292 E">
                                      <p:cBhvr>
                                        <p:cTn id="19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218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221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867280" y="1371600"/>
            <a:ext cx="1211400" cy="1058760"/>
            <a:chOff x="5867280" y="1371600"/>
            <a:chExt cx="1211400" cy="1058760"/>
          </a:xfrm>
        </p:grpSpPr>
        <p:pic>
          <p:nvPicPr>
            <p:cNvPr id="224" name="" descr=""/>
            <p:cNvPicPr/>
            <p:nvPr/>
          </p:nvPicPr>
          <p:blipFill>
            <a:blip r:embed="rId4"/>
            <a:stretch/>
          </p:blipFill>
          <p:spPr>
            <a:xfrm>
              <a:off x="5867280" y="13716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172200" y="1828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227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230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233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36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39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 11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8 şi  8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6"/>
          <a:stretch/>
        </p:blipFill>
        <p:spPr>
          <a:xfrm>
            <a:off x="4419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2.5E-006 -3.33333E-006 L -0.11614 0.35625 E">
                                      <p:cBhvr>
                                        <p:cTn id="230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253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553080" y="2971800"/>
            <a:ext cx="1211400" cy="1058760"/>
            <a:chOff x="6553080" y="2971800"/>
            <a:chExt cx="1211400" cy="1058760"/>
          </a:xfrm>
        </p:grpSpPr>
        <p:pic>
          <p:nvPicPr>
            <p:cNvPr id="262" name="" descr=""/>
            <p:cNvPicPr/>
            <p:nvPr/>
          </p:nvPicPr>
          <p:blipFill>
            <a:blip r:embed="rId7"/>
            <a:stretch/>
          </p:blipFill>
          <p:spPr>
            <a:xfrm>
              <a:off x="6553080" y="29718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6858000" y="3428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65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68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271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4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3 şi 7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6"/>
          <a:stretch/>
        </p:blipFill>
        <p:spPr>
          <a:xfrm>
            <a:off x="4419720" y="3352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Motion origin="layout" path="M -2.5E-006 3.33333E-006 L -0.41614 0.1118 E">
                                      <p:cBhvr>
                                        <p:cTn id="276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276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285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288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895480" y="3809880"/>
            <a:ext cx="1211400" cy="1059120"/>
            <a:chOff x="2895480" y="3809880"/>
            <a:chExt cx="1211400" cy="1059120"/>
          </a:xfrm>
        </p:grpSpPr>
        <p:pic>
          <p:nvPicPr>
            <p:cNvPr id="291" name="" descr=""/>
            <p:cNvPicPr/>
            <p:nvPr/>
          </p:nvPicPr>
          <p:blipFill>
            <a:blip r:embed="rId7"/>
            <a:stretch/>
          </p:blipFill>
          <p:spPr>
            <a:xfrm>
              <a:off x="2895480" y="38098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320040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80880" y="4343400"/>
            <a:ext cx="1211400" cy="1058760"/>
            <a:chOff x="380880" y="4343400"/>
            <a:chExt cx="1211400" cy="1058760"/>
          </a:xfrm>
        </p:grpSpPr>
        <p:pic>
          <p:nvPicPr>
            <p:cNvPr id="294" name="" descr=""/>
            <p:cNvPicPr/>
            <p:nvPr/>
          </p:nvPicPr>
          <p:blipFill>
            <a:blip r:embed="rId8"/>
            <a:stretch/>
          </p:blipFill>
          <p:spPr>
            <a:xfrm>
              <a:off x="380880" y="43434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85800" y="48002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297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26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9 şi 9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Motion origin="layout" path="M -8.33333E-007 -6.93889E-018 L 0.525 0.11111 E">
                                      <p:cBhvr>
                                        <p:cTn id="31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533520" y="1219320"/>
            <a:ext cx="1211040" cy="1058760"/>
            <a:chOff x="533520" y="1219320"/>
            <a:chExt cx="1211040" cy="1058760"/>
          </a:xfrm>
        </p:grpSpPr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533520" y="1219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838080" y="1676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308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311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314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317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895480" y="3809880"/>
            <a:ext cx="1211400" cy="1059120"/>
            <a:chOff x="2895480" y="3809880"/>
            <a:chExt cx="1211400" cy="1059120"/>
          </a:xfrm>
        </p:grpSpPr>
        <p:pic>
          <p:nvPicPr>
            <p:cNvPr id="320" name="" descr=""/>
            <p:cNvPicPr/>
            <p:nvPr/>
          </p:nvPicPr>
          <p:blipFill>
            <a:blip r:embed="rId7"/>
            <a:stretch/>
          </p:blipFill>
          <p:spPr>
            <a:xfrm>
              <a:off x="2895480" y="38098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320040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562720" y="5029200"/>
            <a:ext cx="1211040" cy="1058760"/>
            <a:chOff x="5562720" y="5029200"/>
            <a:chExt cx="1211040" cy="1058760"/>
          </a:xfrm>
        </p:grpSpPr>
        <p:pic>
          <p:nvPicPr>
            <p:cNvPr id="323" name="" descr=""/>
            <p:cNvPicPr/>
            <p:nvPr/>
          </p:nvPicPr>
          <p:blipFill>
            <a:blip r:embed="rId8"/>
            <a:stretch/>
          </p:blipFill>
          <p:spPr>
            <a:xfrm>
              <a:off x="5562720" y="502920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5867280" y="54860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326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29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6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6 şi 5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ush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3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8.33333E-007 -1.11111E-006 L 0.37552 0.48958 E">
                                      <p:cBhvr>
                                        <p:cTn id="338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96240" cy="51814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3809880" y="4648320"/>
            <a:ext cx="1211400" cy="1058760"/>
            <a:chOff x="3809880" y="4648320"/>
            <a:chExt cx="1211400" cy="105876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3809880" y="464832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114800" y="51051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733920" y="1295280"/>
            <a:ext cx="1211040" cy="1059120"/>
            <a:chOff x="3733920" y="1295280"/>
            <a:chExt cx="1211040" cy="1059120"/>
          </a:xfrm>
        </p:grpSpPr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3733920" y="12952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038480" y="17524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3809880"/>
            <a:ext cx="1211040" cy="1059120"/>
            <a:chOff x="4876920" y="3809880"/>
            <a:chExt cx="1211040" cy="1059120"/>
          </a:xfrm>
        </p:grpSpPr>
        <p:pic>
          <p:nvPicPr>
            <p:cNvPr id="340" name="" descr=""/>
            <p:cNvPicPr/>
            <p:nvPr/>
          </p:nvPicPr>
          <p:blipFill>
            <a:blip r:embed="rId4"/>
            <a:stretch/>
          </p:blipFill>
          <p:spPr>
            <a:xfrm>
              <a:off x="4876920" y="3809880"/>
              <a:ext cx="121104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81480" y="426708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495680" y="2438280"/>
            <a:ext cx="1211400" cy="1059120"/>
            <a:chOff x="4495680" y="2438280"/>
            <a:chExt cx="1211400" cy="1059120"/>
          </a:xfrm>
        </p:grpSpPr>
        <p:pic>
          <p:nvPicPr>
            <p:cNvPr id="343" name="" descr=""/>
            <p:cNvPicPr/>
            <p:nvPr/>
          </p:nvPicPr>
          <p:blipFill>
            <a:blip r:embed="rId5"/>
            <a:stretch/>
          </p:blipFill>
          <p:spPr>
            <a:xfrm>
              <a:off x="4495680" y="24382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4800600" y="2895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048120" y="2362320"/>
            <a:ext cx="1211040" cy="1058760"/>
            <a:chOff x="3048120" y="2362320"/>
            <a:chExt cx="1211040" cy="1058760"/>
          </a:xfrm>
        </p:grpSpPr>
        <p:pic>
          <p:nvPicPr>
            <p:cNvPr id="346" name="" descr=""/>
            <p:cNvPicPr/>
            <p:nvPr/>
          </p:nvPicPr>
          <p:blipFill>
            <a:blip r:embed="rId6"/>
            <a:stretch/>
          </p:blipFill>
          <p:spPr>
            <a:xfrm>
              <a:off x="3048120" y="236232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3352680" y="281916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6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895480" y="3809880"/>
            <a:ext cx="1211400" cy="1059120"/>
            <a:chOff x="2895480" y="3809880"/>
            <a:chExt cx="1211400" cy="1059120"/>
          </a:xfrm>
        </p:grpSpPr>
        <p:pic>
          <p:nvPicPr>
            <p:cNvPr id="349" name="" descr=""/>
            <p:cNvPicPr/>
            <p:nvPr/>
          </p:nvPicPr>
          <p:blipFill>
            <a:blip r:embed="rId7"/>
            <a:stretch/>
          </p:blipFill>
          <p:spPr>
            <a:xfrm>
              <a:off x="2895480" y="3809880"/>
              <a:ext cx="1211400" cy="10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200400" y="42670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17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562720" y="5029200"/>
            <a:ext cx="1211040" cy="1058760"/>
            <a:chOff x="5562720" y="5029200"/>
            <a:chExt cx="1211040" cy="1058760"/>
          </a:xfrm>
        </p:grpSpPr>
        <p:pic>
          <p:nvPicPr>
            <p:cNvPr id="352" name="" descr=""/>
            <p:cNvPicPr/>
            <p:nvPr/>
          </p:nvPicPr>
          <p:blipFill>
            <a:blip r:embed="rId8"/>
            <a:stretch/>
          </p:blipFill>
          <p:spPr>
            <a:xfrm>
              <a:off x="5562720" y="5029200"/>
              <a:ext cx="12110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867280" y="5486040"/>
              <a:ext cx="4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696080" y="1600200"/>
            <a:ext cx="1211400" cy="1058760"/>
            <a:chOff x="7696080" y="1600200"/>
            <a:chExt cx="1211400" cy="1058760"/>
          </a:xfrm>
        </p:grpSpPr>
        <p:pic>
          <p:nvPicPr>
            <p:cNvPr id="355" name="" descr=""/>
            <p:cNvPicPr/>
            <p:nvPr/>
          </p:nvPicPr>
          <p:blipFill>
            <a:blip r:embed="rId9"/>
            <a:stretch/>
          </p:blipFill>
          <p:spPr>
            <a:xfrm>
              <a:off x="7696080" y="1600200"/>
              <a:ext cx="121140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8001000" y="20570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660033"/>
                  </a:solidFill>
                  <a:latin typeface="Arial"/>
                </a:rPr>
                <a:t>48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57" name="" descr=""/>
          <p:cNvPicPr/>
          <p:nvPr/>
        </p:nvPicPr>
        <p:blipFill>
          <a:blip r:embed="rId10"/>
          <a:stretch/>
        </p:blipFill>
        <p:spPr>
          <a:xfrm>
            <a:off x="6797520" y="4740120"/>
            <a:ext cx="2346480" cy="2117880"/>
          </a:xfrm>
          <a:prstGeom prst="rect">
            <a:avLst/>
          </a:prstGeom>
          <a:ln w="0">
            <a:noFill/>
          </a:ln>
        </p:spPr>
      </p:pic>
      <p:sp>
        <p:nvSpPr>
          <p:cNvPr id="358" name="">
            <a:hlinkClick r:id="" action="ppaction://hlinkshowjump?jump=nextslide"/>
            <a:hlinkClick r:id="rId11"/>
          </p:cNvPr>
          <p:cNvSpPr/>
          <p:nvPr/>
        </p:nvSpPr>
        <p:spPr>
          <a:xfrm>
            <a:off x="73152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523880" y="228600"/>
            <a:ext cx="6172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re număr este cu 22 mai mic </a:t>
            </a:r>
            <a:endParaRPr b="0" lang="en-US" sz="18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cât produsul nemerelor  10 şi 7 ?</a:t>
            </a:r>
            <a:endParaRPr b="0" lang="en-US" sz="1800" spc="1" strike="noStrike">
              <a:ln w="0">
                <a:noFill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5" dur="1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animMotion origin="layout" path="M -0.10781 0.07847 L -0.64948 0.48958 E">
                                      <p:cBhvr>
                                        <p:cTn id="360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1:40:50Z</dcterms:created>
  <dc:creator>sa</dc:creator>
  <dc:description/>
  <dc:language>en-US</dc:language>
  <cp:lastModifiedBy>sa</cp:lastModifiedBy>
  <dcterms:modified xsi:type="dcterms:W3CDTF">2008-12-16T19:04:38Z</dcterms:modified>
  <cp:revision>15</cp:revision>
  <dc:subject/>
  <dc:title>1. dia</dc:title>
</cp:coreProperties>
</file>